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D75E-DBFE-4353-B3BD-B17C2EE5D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B0F9-8BD6-478A-AED1-C766AE14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9B9C-9155-4A69-BDEF-CAE742DA6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B11E-4F84-4118-AD17-F0EE084B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B8FB-2DA3-40E0-BB3D-83654F62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B9E4-B66C-41BB-ADB7-84573667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DA4E-F277-48D7-AF4E-0424A457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907B-5F09-44AD-8D9A-C5F98478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E370-4176-4D89-999A-D427F635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79E2-5A52-422A-A76A-221EE0A8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09D3-CF9E-475F-BB30-C7AAB0CE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6E76-50E6-492E-9B03-A1A2B735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7C8A-B40E-4556-87C2-72CF53B3C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– Lewis and Clar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 annotated map of the Lewis and Clark expe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at least 5 animals or plants that they discov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their route and discove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key and color code where 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4:00:19Z</dcterms:created>
  <dc:creator>NNPS</dc:creator>
  <dc:description/>
  <dc:language>en-US</dc:language>
  <cp:lastModifiedBy>NNPS</cp:lastModifiedBy>
  <dcterms:modified xsi:type="dcterms:W3CDTF">2008-05-05T14:00:58Z</dcterms:modified>
  <cp:revision>1</cp:revision>
  <dc:subject/>
  <dc:title>Project – Lewis and Clark </dc:title>
</cp:coreProperties>
</file>